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9274-5D16-4279-B209-91BB24B0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F68-D191-44C7-AC6F-887CD0B2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C50D-FD16-4349-8A37-B8F85792B3E1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069-4CDC-41CD-ADC7-06F133888FE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29960" y="380880"/>
            <a:ext cx="69944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BC PPT International 2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collegeadvisor@georgebrown.c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1680" y="2766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e Brown Colle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00480" y="40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mmigrant Education Depart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areer and Work Counsellor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tudents in this program are exposed to both individual and group career counselling theory and practi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 months of specialized English language instruction and a job placement allow students to gain Canadian experien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16 months (4 semesters)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 wee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September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llege Teacher Training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internationally trained teachers with the language skills, training, and Canadian experience to enable them to secure a teaching position at a community colleg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33 weeks (2 semesters)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42 h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nstruction Management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applied education for management positions in all construction settings, including an enhanced workplace experience component to help students make a quick transition to employ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3-4 months (3</a:t>
            </a:r>
            <a:r>
              <a:rPr b="0" lang="en-US" sz="2400" spc="-1" strike="noStrike" baseline="30000">
                <a:solidFill>
                  <a:srgbClr val="404040"/>
                </a:solidFill>
                <a:latin typeface="Arial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emest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Januar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arly Childhood Educator Bridging Program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eligible applicants with the upgrading and experience to be recognized to work in Ontario as an Early Childhood Educator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start/length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Ongo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www.aeceo.c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search Commercialization and Innovation Graduate Certificat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tudents are internationally trained individuals with Masters- or Doctorate-level qualifications, seeking to bring innovations to market through applied research and commercialization activitie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Hands-on experience working on real projects with industry partners, job counselling, mentoring and networking. In class/lab learning – 42 weeks over three semest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ction Button: Back or Previous 3"/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st-Graduate Certificate Progra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raduate Certificates are short term 2 or 3 semester programs, with or without co-op, that are built on previous post-secondary stud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xamples of  Post-Graduate programs includ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ism and Behavioural Science - C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lanning - B407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esources Management - B408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Business Analyst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ing - T411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tal Assistant Level II Upgrade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c Pathway for Nurses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ction Button: Back or Previous 3"/>
          <p:cNvSpPr/>
          <p:nvPr/>
        </p:nvSpPr>
        <p:spPr>
          <a:xfrm>
            <a:off x="8353440" y="6026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48068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Requirements for Admission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FL – 550 for Diploma and Certificate/ post-graduate program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LTS (ACADEMIC)  6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e Brown Intensive ESL – level 8 (7 for bridging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2 C or 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ure stud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(pre-admission test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st scores are valid for two years. Requirements may vary subject to rank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did a gra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level Engl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in a country where English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common language of that country, you are subject to pre-admission testing or one of the above test scores</a:t>
            </a:r>
            <a:br>
              <a:rPr sz="1400"/>
            </a:br>
            <a:br>
              <a:rPr sz="1200"/>
            </a:br>
            <a:br>
              <a:rPr sz="12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284640" y="2897280"/>
            <a:ext cx="28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077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mature student stat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068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19 or older and do not have an OSSD, you may apply as a mature student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tested and/or interviewed to see if you meet the program prerequisite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der the age of 19 at the start of the program, you must have an OSSD or equivalent to be admitt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3200" y="1248840"/>
            <a:ext cx="777240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ing programs require proof of previous post-second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1840" y="2035080"/>
            <a:ext cx="31557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 of Canad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Credential Assessment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ario AgriCent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Stone Road West, Suite 10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lph  ON  N1G 5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  519-763-728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in Canada:  1-800-321-60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  519-763-6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icascanada.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icascanada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84640" y="2897280"/>
            <a:ext cx="2896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Education Servi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Charles Street East, Suite 7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4Y 1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2-0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1-866-343-00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416-972-9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wes.org/ca/index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181560" y="4173480"/>
            <a:ext cx="2730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ative Educati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 of Continuing Stud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8 St. George Stre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5S 2V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8-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learn.utoronto.ca/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696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240" y="1944720"/>
            <a:ext cx="79470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ll post-Secondary education (course credits, grades and GPA); verification of completion of Secondary School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academic documents must be received directly from the issuing institution or relevant government  author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C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nd Comprehensive for Secondary and Post-Seconda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lly designed Secondary School Comprehensiv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ocuments or copies certified within the last 12 months in the country of current reside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pecific jurisdictions, documents issued directly to ICAS by the institution (see websit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flipV="1" rot="10800000">
            <a:off x="1893960" y="27684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4000" y="3930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8480" y="1442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New to Canada?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98480" y="0"/>
            <a:ext cx="699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4440" y="2085480"/>
            <a:ext cx="79074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 (The University of Toront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ost-Secondary credentials for employment purposes and verification of credential equival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S does not provide detailed course by course evaluation at this tim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 Require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cripts or photocopies are acceptable.  Original documents must be provided on dema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258560"/>
            <a:ext cx="84596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you learn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your interviewing, networking and communication skill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and function within the workplace culture in your occupation and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ly interact with colleagues, supervisors and cli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o qualifie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training or experience in a specific occupation or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anadian Language Benchmark English levels between 6 and 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e a permanent resident or protected pers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5720" y="0"/>
            <a:ext cx="70358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 Specific Language Tr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LT)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19240" y="1195560"/>
            <a:ext cx="85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Want to improve your workplace      communication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5546880" y="1755720"/>
            <a:ext cx="3633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72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e Brown College                                 OSLT course offe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9800" y="142848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ummer and Fal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ursing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June                       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Sciences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Octo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Nov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OSLT courses are offered at our Casa Loma campus (Spadina &amp; Dupont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Content Placeholder 4"/>
          <p:cNvSpPr/>
          <p:nvPr/>
        </p:nvSpPr>
        <p:spPr>
          <a:xfrm>
            <a:off x="4863960" y="2859120"/>
            <a:ext cx="3532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o register, please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416-415-5000 x 6457  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or visit            </a:t>
            </a: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www.co-osl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6320" y="1344240"/>
            <a:ext cx="7801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are my options for upgrading to help me get into my program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grading options incl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grams: Community Services, Health Sciences, and Busin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L: Levels 1 – 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Upgrading for Math, English, Computer Literacy, Biology, Physics, and Chemistry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also complete high school credits at any adult high school. For more information on this, visit: http://www.tdsb.on.ca/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Financing your Training/ Education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1600" y="1910880"/>
            <a:ext cx="8215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ligible to apply for financial assistance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ario Student Assistance Progra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SAP), you must be a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ian citizen;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resident; o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person/convention refugee with a Protected Persons Status Document (PPSD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be enrolled or planning to enroll in an approved post-secondary institution in a program that is 12 weeks or mo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lived in Canada for less than 12 consecutive months, you may be eligible for OSAP. You might have to submit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Canadian Residence for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termine if you are eligible. This will help OSAP determine if you have lived in any other Canadian province or territory before you lived in Ontario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Questions</a:t>
            </a:r>
            <a:br>
              <a:rPr sz="96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 </a:t>
            </a:r>
            <a:br>
              <a:rPr sz="6000"/>
            </a:b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36880" y="23508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1212480"/>
            <a:ext cx="86313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 free, one-on-one, comprehensive service with the fundamental aim of assisting clients through guidance to achieve their educational goal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hat are the services offere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al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rovis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Entry Adv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Advising: Where can I find Advising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0160"/>
            <a:ext cx="83818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We are open on weekdays from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9 am to 5 pm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and have two locations to serve our clien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. James Cam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sa Loma Camp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200 King Street East, Toronto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160 Kendal Avenue, Toront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267D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C408, C40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phone: 416.415.5000 ext. 294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ollegeadvisor@georgebrown.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re-booked appointments are strongly recommend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BARRI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 rot="10800000">
            <a:off x="228600" y="1299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International qualificat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nadian employers not that clued in to degrees from overse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228600" y="2334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oo little ‘Canadian’ experience or too much experienc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 rot="10800000">
            <a:off x="222120" y="44240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Job Search proc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ften different than how one goes about it in my home count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0800000">
            <a:off x="228600" y="338580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Especially if English is not my first langu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10800000">
            <a:off x="225360" y="54464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Not used to 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ten new things to 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ld Calls / Information interviews / Networking ev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I overcome these barri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960" y="134460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adian style resu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line job sear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ld cal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formation interview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lunteer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class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ing: Online and in pers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Program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Communication Course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Bridging Progra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 bridging program allows you to make use of your education and work experience acquired abroad to enter rewarding fields in the workforce in Canad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du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Job placement </a:t>
            </a: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anadian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areer services to help you find a jo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ing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279600" y="2189160"/>
            <a:ext cx="1793880" cy="294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rriers w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 rot="10800000">
            <a:off x="269640" y="1800360"/>
            <a:ext cx="144756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dg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8"/>
          <p:cNvSpPr/>
          <p:nvPr/>
        </p:nvSpPr>
        <p:spPr>
          <a:xfrm>
            <a:off x="2879640" y="2106720"/>
            <a:ext cx="3065400" cy="1101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9"/>
          <p:cNvSpPr/>
          <p:nvPr/>
        </p:nvSpPr>
        <p:spPr>
          <a:xfrm>
            <a:off x="2871720" y="3297240"/>
            <a:ext cx="3052800" cy="10810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cred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0"/>
          <p:cNvSpPr/>
          <p:nvPr/>
        </p:nvSpPr>
        <p:spPr>
          <a:xfrm>
            <a:off x="2871720" y="4456080"/>
            <a:ext cx="3078360" cy="113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re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761160" y="1906560"/>
            <a:ext cx="1906560" cy="357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29960" y="172800"/>
            <a:ext cx="6994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C Bridging Programs for Internationally Educated Professio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gram 8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7801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2:28:19Z</dcterms:created>
  <dc:creator>Surb Toor-Smith</dc:creator>
  <dc:description/>
  <dc:language>en-US</dc:language>
  <cp:lastModifiedBy>aholmes</cp:lastModifiedBy>
  <dcterms:modified xsi:type="dcterms:W3CDTF">2011-07-08T18:48:02Z</dcterms:modified>
  <cp:revision>279</cp:revision>
  <dc:subject/>
  <dc:title>Place Title Here</dc:title>
</cp:coreProperties>
</file>